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3F5D-3796-4A2E-BFE0-CCB8CE76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D80E-809F-4F67-B12C-6AB4E8C3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59B2-72B1-4639-8451-370586D3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A40C-917F-4974-B8AF-25523908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DBB-FFC6-455B-819F-E7753030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9542-4F6C-4430-8C1E-98A3DDEF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1B6D-C79F-42A2-B60B-ABECE73B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8AD8-DEA0-406A-B2CE-EB583C92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ABF1-30C7-4027-B627-4A3934D9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3DDD-0526-472B-BE29-4E08BC99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4580-AB2E-4CB0-B46B-FD34A56F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686E-0B34-4FB3-ABB4-DC262B15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9E2C-2828-4529-9047-081183A45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53352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04920"/>
            <a:ext cx="85345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80880"/>
            <a:ext cx="8534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80880"/>
            <a:ext cx="861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228600"/>
            <a:ext cx="86868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380880"/>
            <a:ext cx="8839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533520" y="457200"/>
            <a:ext cx="8610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457200" y="38088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3T18:01:56Z</dcterms:created>
  <dc:creator>Merrillville Community School Corporation</dc:creator>
  <dc:description/>
  <dc:language>en-US</dc:language>
  <cp:lastModifiedBy>User</cp:lastModifiedBy>
  <dcterms:modified xsi:type="dcterms:W3CDTF">2014-09-09T18:09:57Z</dcterms:modified>
  <cp:revision>4</cp:revision>
  <dc:subject/>
  <dc:title>PowerPoint Presentation</dc:title>
</cp:coreProperties>
</file>